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6F5-416C-42F6-83B6-D173C327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4FB-A5F8-41E8-90D4-C22C7692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628-241B-438F-8DA5-2D05E52A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D2C-3F7F-4587-AB24-9A312A9A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56F5C-9A0F-40F1-9C53-2B3C2807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F622E-775F-4464-BBDB-225F3ACC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DA73D-7C27-4B30-8AE5-C33EB553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678DD-27E7-4C5C-85BA-C3A81A5C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31B3A-1676-4BA8-81E9-C66BC117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E67F3-5E30-4DEF-AF2C-48C4B0F7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ECDE6-25E5-4D59-97DB-87B2380C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73D-F174-4D2C-BDDB-4F2F03BD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D7EC8-381F-4CF2-8A92-A8ED55DE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5FE66-D11D-42A0-B27C-0C7042C6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18105-1873-4ABF-904E-5B8015BF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FE15B-6C68-458C-9D15-A7A2397C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A3729-6FD3-40A0-A142-6BC62447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3AC-3616-4324-8093-D9788358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6B8-B0AE-4B0B-A762-971B9458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932-A5FA-4518-A109-9BE6AA5E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061-77FF-415D-812D-2D8A8804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A4D-E056-465C-96CA-B565F696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5B9-B979-46D5-BDBE-2C9D5C1B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EC2-AF1A-4A9E-8B5F-5F148F91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1611-0B05-4996-B0C8-4124F609A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A11E-06F2-484F-BEFC-D12E3161A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Beverly Br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Garaj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garaje. Es muy grande y estupe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2435400"/>
            <a:ext cx="40384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omedor. Es muy bonito y mod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2617920"/>
            <a:ext cx="40384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m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. Es muy grande y bel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cocina. Es, bonita y mode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sala. La sala es muy fabulosa y antigu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38760" y="2660760"/>
            <a:ext cx="4000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ño. Es muy nuevo y gran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4648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uarto. Es muy impresionante y 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4038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Jardi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jardin. Es muy magnifico y bon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8320" y="2448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ati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patio. Es muy lujoso y bel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2374920"/>
            <a:ext cx="4038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9:24Z</dcterms:created>
  <dc:creator>brionbev</dc:creator>
  <dc:description/>
  <dc:language>en-US</dc:language>
  <cp:lastModifiedBy>brionbev</cp:lastModifiedBy>
  <dcterms:modified xsi:type="dcterms:W3CDTF">2013-04-03T17:54:11Z</dcterms:modified>
  <cp:revision>9</cp:revision>
  <dc:subject/>
  <dc:title>La Casa</dc:title>
</cp:coreProperties>
</file>